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B0F-C21B-4106-AABA-9843AFBC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796-13BE-4619-87AF-4C1B2B52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7AD-B44C-477E-AF32-8BEF290C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696-280A-4E87-9BAE-36E69377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102-08D3-4FAF-AA33-C3EB5A5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B09-821E-4F8C-9B04-92F94A14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612-FB6B-476F-8472-5164BABC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C12-B69C-4D56-9D91-CF4FF28A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9B7-8D7D-48D8-B3D8-0E95FBD4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0B2-40E1-4069-84E4-C651048C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912-31FD-4F62-85AE-BE9BB02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F92-8BA0-4A2F-9379-A9405D2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46C7-6A59-40B0-A6B7-7A588865A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8 I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0 de marzo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1732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5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Lees muc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ia y resp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tudias español en la escue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Hablas mucho con la profesora de españ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cuchas a la profes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Miras al profesor cuando él hab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Presente de los verbos –ER, -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% de los verbos en español terminan en    -ER o 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conjugar los verbos que terminan en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ER o –I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Sacamos la terminación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-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–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omer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Vi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Remplazamos la terminación de la siguiente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l Ell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los 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d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**Los dos son iguales EXEPTO en NOSOTROS Y VOSOTROS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040" y="397656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9720" y="443376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4120" y="50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4200" y="403848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56400" y="441972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3480" y="4876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12800" y="40384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1720" y="443376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-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12200" y="3581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6280" y="358128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ER </a:t>
            </a: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/ 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297180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742840" y="29718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486040" y="29718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97180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bo irregular 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verbo VER (to see) se conjuga igual que los verbos –ER regulares, EXCEPTO en la forma de Y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</a:t>
            </a:r>
            <a:r>
              <a:rPr b="0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 ella U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sot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é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 Ellas Ud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243828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43400" y="243828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143000"/>
          <a:ext cx="8686800" cy="5292720"/>
        </p:xfrm>
        <a:graphic>
          <a:graphicData uri="http://schemas.openxmlformats.org/drawingml/2006/table">
            <a:tbl>
              <a:tblPr/>
              <a:tblGrid>
                <a:gridCol w="1981080"/>
                <a:gridCol w="1494000"/>
                <a:gridCol w="1736640"/>
                <a:gridCol w="1736640"/>
                <a:gridCol w="173844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Viv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uch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1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52480" y="1600200"/>
          <a:ext cx="5334120" cy="7300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one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45720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2880" y="1905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1905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7280" y="1905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1905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4000" y="191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2:59:13Z</dcterms:created>
  <dc:creator>Helen Zumaeta</dc:creator>
  <dc:description/>
  <dc:language>en-US</dc:language>
  <cp:lastModifiedBy>Helen Zumaeta</cp:lastModifiedBy>
  <dcterms:modified xsi:type="dcterms:W3CDTF">2011-03-10T17:49:08Z</dcterms:modified>
  <cp:revision>9</cp:revision>
  <dc:subject/>
  <dc:title>Me llamo _______ Clase 7 IM La fecha es el 10 de marzo del 2011</dc:title>
</cp:coreProperties>
</file>